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6405A-CA09-4558-B135-DB277C20C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E25F-2ABE-4F3B-9A45-D93FF6F2F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03999-3A0A-46C8-90F0-42AF44C35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6F6E1-2C0B-4A65-8C1E-9D5333FA4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B9043-3F60-49C4-BE37-4EBB4016F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5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E43A8-6DC6-472A-83A7-ADCD4B314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5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AE537-B977-426A-A0B6-895037719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6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B3FC5-FFD7-425E-8564-DCD0D59A8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03328-6E7F-458E-91A1-2FC0B5124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1AD8E-EDEE-423B-B47B-E4341DCAF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D1BAD-B6BB-4CFC-822D-B426058B9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113E5-0D7C-439F-8797-2953BC19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6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4F29-35B4-40D2-8215-9027E90E9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A62B-4189-460C-B82D-0E1309CDA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7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3C8BC-AABD-4493-BB17-733F52515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89E6F-B63B-4D65-96B4-9496AC1D1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8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8C547-ABDA-4169-9D0E-4673FEFF3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389A1A-2FF9-418C-BC39-713F773063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0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1C955-E7C9-4A37-A4BB-85459E6B2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0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AC8B3-83F2-462E-8EBC-2C98F2A8E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0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7ED3B-24E7-4F6F-90A0-F4432BB10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27F66-D7D6-4361-8402-302DAEC21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3C54-4202-4ED4-8334-F498E6B6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496CC-1A28-43D4-95E5-3739FF5B5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1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2C53A-2858-4BFD-8E45-25AB984D4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1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759AD-B45D-4153-A411-A0D9BB6ED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2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1605D-08E0-4907-91AF-5E874621D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2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A53FF-F6A1-4FA3-8A76-4C78A39D0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7E9BE-BF6E-4AD8-A22B-B6E22ADCE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3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AE5B02-B617-4A8D-9C3E-FC0391EF8A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5CFEC3-8646-4EB0-964D-BD11E610F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4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BC172-72D9-4753-B59C-65023DED4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5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DDDA9-19E2-4A93-88CA-1CAB2CE5A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542F-DB93-417C-86E7-81CAC5AF9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5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D8E55-0C93-4079-A313-F2222A720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C781D2-921E-4AB9-8078-6E94E254A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2DE2E-D900-4D6B-89BE-B6EC0BA92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5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5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591BC-6C1B-45BF-92F3-2E54E15B7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6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D6E3D-4168-490E-AA75-F492583CC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7E349-6A11-4CA0-876F-7FF7C5C25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7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C190D-8E9D-4859-AFA7-3ED0FD500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E117E0-2FD1-4451-B6F7-3B79EE6D6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7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D12568-BFB2-442B-AEE6-0C3A7E021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9728E-DCD2-4CA1-BA12-E0B3D4C6C2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9ED2-BF2A-4C2B-A1C2-643A010D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9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EAC5C2-1DE9-48A8-A770-3EBECB8D3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9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5649C-3D55-4505-B16D-D1D36D5348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9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BC3C9-CC51-48CF-B91F-4D6F30554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E6C50-5EAF-48EF-B7B7-2528E3C4B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9B5B30-0053-47B7-BD4B-C23252B5A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B4A6E-95FE-4F66-B47F-DFD252B5B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0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7FD0D-9CA6-48A4-B409-1C843B0A7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1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B450C-DA05-4E55-AB93-978AE5A09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1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FBF08-2FEF-4FF2-86FE-FB4166E99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CC028-5D60-4EDF-B5FB-299EDF8DCD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B0F8-6AF5-49DC-A98A-3F0C2D4B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2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CA86C1-EC83-48F0-B3F9-A8BB789226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E4745D-31FD-4A7C-8E31-39A654C3FD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4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F9532-E3AF-44FA-86F0-48F471FC4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4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3E2A0-4A87-47AD-AB91-05C712451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4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4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89377-504C-4EEB-8CFE-E5809C499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37505-C452-4F59-A915-9F3CBC588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7534C6-DD8C-429B-AD73-687492B05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2BAD7-2EB1-4ADF-ABC2-02C7DFBD1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5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6783D-B385-48F7-A27A-EE385FDAF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5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93F00-517F-45E4-990B-08FFD1F89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FE4B-3567-455C-8F42-3D880B42C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6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325CA-DCF6-4B97-9E02-A789001BF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1A062E-E303-4ECA-A8D1-603FD99DD5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7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64A295-4314-4B63-853C-EFB06194C5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DD0412-713D-4458-A64A-95E5670B0C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8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4F276-A321-4F0B-B075-1E57131C11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8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939956-38D7-4C63-B04A-C8B272292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9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9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770870-AD98-4CD4-BB7B-04A05C5AD3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867988-2918-4AA4-9F6D-65F73BAFA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136C21-9F0A-4249-966F-89A05F141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9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9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9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DD64E9-DC31-4695-9ACD-EB911D1FF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3B8E2-35DD-4965-BED7-54E24E64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F5A6C-F2C0-429C-971D-0E85A8ADC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02D9D-7079-443B-BA97-F78BD435D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6A369-521D-4BF9-BE84-E5535D60B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1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EA91B-E90A-40D5-887F-EFBA6D3706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1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2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2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C24FFE-EE71-46BA-9775-4645222213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CFB3-B0C0-40CD-8CA4-2033BDD56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02A1-2C24-4E6B-9D1C-CC83012F80A4}"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5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52"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E0D7-A807-41AC-8645-CAE0195B91CA}"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9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99"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00"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50C4-5CE2-4A32-B1F6-CCE69A5087D7}"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0"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14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145"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46"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28CF-EDF1-4025-A792-CAEC7236926B}"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4"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19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191"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92"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408D-F9E3-4945-B8A5-DE6689F41285}" type="slidenum">
              <a:rPr b="0" lang="lv-LV"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23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237"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38"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3796-0761-4C41-AE10-B7446644B04A}"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6"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8"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28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283"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84"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C36C-DD1B-417A-86CC-169555335C83}"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9600" spc="-1" strike="noStrike">
                <a:solidFill>
                  <a:srgbClr val="92d050"/>
                </a:solidFill>
                <a:latin typeface="Times New Roman"/>
                <a:ea typeface="Times New Roman"/>
              </a:rPr>
              <a:t>Fizioterapijas pamati</a:t>
            </a:r>
            <a:endParaRPr b="0" lang="en-US" sz="9600" spc="-1" strike="noStrike">
              <a:solidFill>
                <a:srgbClr val="404040"/>
              </a:solidFill>
              <a:latin typeface="Times New Roman"/>
            </a:endParaRPr>
          </a:p>
        </p:txBody>
      </p:sp>
      <p:sp>
        <p:nvSpPr>
          <p:cNvPr id="323" name="PlaceHolder 2"/>
          <p:cNvSpPr>
            <a:spLocks noGrp="1"/>
          </p:cNvSpPr>
          <p:nvPr>
            <p:ph type="subTitle"/>
          </p:nvPr>
        </p:nvSpPr>
        <p:spPr>
          <a:xfrm>
            <a:off x="1618920" y="5013000"/>
            <a:ext cx="7032600" cy="561960"/>
          </a:xfrm>
          <a:prstGeom prst="rect">
            <a:avLst/>
          </a:prstGeom>
          <a:noFill/>
          <a:ln w="0">
            <a:noFill/>
          </a:ln>
        </p:spPr>
        <p:txBody>
          <a:bodyPr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a7c29"/>
                </a:solidFill>
                <a:latin typeface="Times New Roman"/>
                <a:ea typeface="Times New Roman"/>
              </a:rPr>
              <a:t>EGIJA KOVAĻENKO</a:t>
            </a:r>
            <a:endParaRPr b="0" lang="en-US" sz="1800" spc="-1" strike="noStrike">
              <a:solidFill>
                <a:srgbClr val="404040"/>
              </a:solidFill>
              <a:latin typeface="Arial"/>
            </a:endParaRPr>
          </a:p>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a7c29"/>
                </a:solidFill>
                <a:latin typeface="Times New Roman"/>
                <a:ea typeface="Times New Roman"/>
              </a:rPr>
              <a:t>FIZIOTERAPEITE</a:t>
            </a:r>
            <a:endParaRPr b="0" lang="en-US" sz="1800" spc="-1" strike="noStrike">
              <a:solidFill>
                <a:srgbClr val="404040"/>
              </a:solidFill>
              <a:latin typeface="Arial"/>
            </a:endParaRPr>
          </a:p>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a7c29"/>
                </a:solidFill>
                <a:latin typeface="Times New Roman"/>
                <a:ea typeface="Times New Roman"/>
              </a:rPr>
              <a:t> </a:t>
            </a:r>
            <a:r>
              <a:rPr b="1" lang="lv-LV" sz="1800" spc="-1" strike="noStrike">
                <a:solidFill>
                  <a:srgbClr val="4a7c29"/>
                </a:solidFill>
                <a:latin typeface="Times New Roman"/>
                <a:ea typeface="Times New Roman"/>
              </a:rPr>
              <a:t>VESELĪBAS ZINĀTŅU MAĢISTRE</a:t>
            </a: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71280" y="90792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300" spc="-1" strike="noStrike">
                <a:solidFill>
                  <a:srgbClr val="297d53"/>
                </a:solidFill>
                <a:latin typeface="Times New Roman"/>
              </a:rPr>
              <a:t>Fāziskie un posturālie muskuļi</a:t>
            </a:r>
            <a:br>
              <a:rPr sz="4300"/>
            </a:br>
            <a:endParaRPr b="0" lang="en-US" sz="4300" spc="-1" strike="noStrike">
              <a:solidFill>
                <a:srgbClr val="404040"/>
              </a:solidFill>
              <a:latin typeface="Times New Roman"/>
            </a:endParaRPr>
          </a:p>
        </p:txBody>
      </p:sp>
      <p:sp>
        <p:nvSpPr>
          <p:cNvPr id="34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keleta muskuļus, atkarībā no dominējošā muskuļu šķiedras tipa, iedala fāziskajos (prevalē ātrās glikolītiskās šķiedras) un posturālajos (jeb toniskajos) muskuļos (prevalē lēnās oksidatīvās šķiedras).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osturālajiem muskuļiem ir raksturīga augsta aerobā aktivitāte, tie ir izturīgi pret nogurumu, palīdz noturēt stabilitāti ķermenī un tiem ir tieksme saīsināties un pārmērīgi saspringt.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Fāziskie muskuļi ir vairāk piemēroti dinamiska darba veikšanai – tie spēj radīt pēkšņas, ātras kustības, taču tajos ātri iestājas nogurums, tiem ir tieksme novājināties un pagarinātie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9520" y="83664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Palpācijas testi</a:t>
            </a:r>
            <a:br>
              <a:rPr sz="4800"/>
            </a:br>
            <a:endParaRPr b="0" lang="en-US" sz="4800" spc="-1" strike="noStrike">
              <a:solidFill>
                <a:srgbClr val="404040"/>
              </a:solidFill>
              <a:latin typeface="Times New Roman"/>
            </a:endParaRPr>
          </a:p>
        </p:txBody>
      </p:sp>
      <p:sp>
        <p:nvSpPr>
          <p:cNvPr id="348" name=""/>
          <p:cNvSpPr txBox="1"/>
          <p:nvPr/>
        </p:nvSpPr>
        <p:spPr>
          <a:xfrm>
            <a:off x="534600" y="1736280"/>
            <a:ext cx="7831080" cy="522612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Kaulu orientieru, ādas un zemādas, cīpslu, saišu, muskuļu un to fasciju palpācija.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alpācijas laikā tiek noteikta:</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palpējamo audu konsistence</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virspusējo audu (ādas) temperatūra, turgors,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alpējamo struktūru fizioloģiskais kustīgums un elastība:</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alielinātu muskulatūras saspringumu,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iofasciālo sāpju punktu („trigger punktus") esamību un aktivitāti,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uskuļu cīpslu lokālu sāpīgumu. </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55360" y="83664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297d53"/>
                </a:solidFill>
                <a:latin typeface="Times New Roman"/>
              </a:rPr>
              <a:t>Nervu sistēmas funkcionālā stāvokļa izvērtējuma testi, propriocepcijas un ķermeņa apzināšanās testi</a:t>
            </a:r>
            <a:br>
              <a:rPr sz="4300"/>
            </a:br>
            <a:endParaRPr b="0" lang="en-US" sz="3200" spc="-1" strike="noStrike">
              <a:solidFill>
                <a:srgbClr val="404040"/>
              </a:solidFill>
              <a:latin typeface="Times New Roman"/>
            </a:endParaRPr>
          </a:p>
        </p:txBody>
      </p:sp>
      <p:sp>
        <p:nvSpPr>
          <p:cNvPr id="35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ākumā tiek veikta detalizēta iepriekš veikto izmeklējumu (neirologa izmeklēšanas rezult.,EMG, MR, CT) rezultātu analīze.</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Jušanas pārbaude: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irspusējā jušana (taktīlā, temperatūras, sāpju sajūta)</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dziļā jušana (</a:t>
            </a:r>
            <a:r>
              <a:rPr b="0" lang="lv-LV" sz="2400" spc="-1" strike="noStrike" u="sng">
                <a:solidFill>
                  <a:srgbClr val="4a7c29"/>
                </a:solidFill>
                <a:uFillTx/>
                <a:latin typeface="Arial"/>
              </a:rPr>
              <a:t>propriocepcija</a:t>
            </a:r>
            <a:r>
              <a:rPr b="0" lang="lv-LV" sz="2000" spc="-1" strike="noStrike">
                <a:solidFill>
                  <a:srgbClr val="404040"/>
                </a:solidFill>
                <a:latin typeface="Arial"/>
              </a:rPr>
              <a:t>)</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Koordinācijas pārbaude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īdzsvara izvērtē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Nervu saknīšu un perifēro nervu iestiepuma testi.</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uskulatūras tonusa izvērtē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Fizioterapijas mērķi:</a:t>
            </a:r>
            <a:endParaRPr b="0" lang="en-US" sz="4800" spc="-1" strike="noStrike">
              <a:solidFill>
                <a:srgbClr val="404040"/>
              </a:solidFill>
              <a:latin typeface="Times New Roman"/>
            </a:endParaRPr>
          </a:p>
        </p:txBody>
      </p:sp>
      <p:sp>
        <p:nvSpPr>
          <p:cNvPr id="352" name=""/>
          <p:cNvSpPr txBox="1"/>
          <p:nvPr/>
        </p:nvSpPr>
        <p:spPr>
          <a:xfrm>
            <a:off x="821880" y="191628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53" name="Rectangle 1"/>
          <p:cNvSpPr/>
          <p:nvPr/>
        </p:nvSpPr>
        <p:spPr>
          <a:xfrm>
            <a:off x="1116000" y="3568680"/>
            <a:ext cx="6840720" cy="1943280"/>
          </a:xfrm>
          <a:prstGeom prst="rect">
            <a:avLst/>
          </a:prstGeom>
          <a:solidFill>
            <a:srgbClr val="99cb38"/>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lgtermiņa mērķ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 </a:t>
            </a:r>
            <a:r>
              <a:rPr b="0" lang="lv-LV" sz="1800" spc="-1" strike="noStrike">
                <a:solidFill>
                  <a:srgbClr val="000000"/>
                </a:solidFill>
                <a:latin typeface="Arial"/>
              </a:rPr>
              <a:t>(jeb tālākie/ sekundāri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1008000" y="1973160"/>
            <a:ext cx="7056360" cy="1008000"/>
          </a:xfrm>
          <a:prstGeom prst="rect">
            <a:avLst/>
          </a:prstGeom>
          <a:solidFill>
            <a:srgbClr val="ffc000"/>
          </a:solidFill>
          <a:ln w="158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Īstermiņa mērķ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eb sākotnēji/ primārie mērķ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own Arrow 3"/>
          <p:cNvSpPr/>
          <p:nvPr/>
        </p:nvSpPr>
        <p:spPr>
          <a:xfrm>
            <a:off x="5292720" y="2919240"/>
            <a:ext cx="647640" cy="649440"/>
          </a:xfrm>
          <a:prstGeom prst="downArrow">
            <a:avLst>
              <a:gd name="adj1" fmla="val 50000"/>
              <a:gd name="adj2" fmla="val 50018"/>
            </a:avLst>
          </a:prstGeom>
          <a:solidFill>
            <a:srgbClr val="ffff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own Arrow 6"/>
          <p:cNvSpPr/>
          <p:nvPr/>
        </p:nvSpPr>
        <p:spPr>
          <a:xfrm>
            <a:off x="3276720" y="2919240"/>
            <a:ext cx="647640" cy="649440"/>
          </a:xfrm>
          <a:prstGeom prst="downArrow">
            <a:avLst>
              <a:gd name="adj1" fmla="val 50000"/>
              <a:gd name="adj2" fmla="val 50018"/>
            </a:avLst>
          </a:prstGeom>
          <a:solidFill>
            <a:srgbClr val="ffff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1052280"/>
            <a:ext cx="82296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297d53"/>
                </a:solidFill>
                <a:latin typeface="Times New Roman"/>
                <a:ea typeface="Times New Roman"/>
              </a:rPr>
              <a:t>Ārstēšanas metodes</a:t>
            </a:r>
            <a:br>
              <a:rPr sz="3600"/>
            </a:br>
            <a:r>
              <a:rPr b="1" lang="lv-LV" sz="3600" spc="-1" strike="noStrike">
                <a:solidFill>
                  <a:srgbClr val="297d53"/>
                </a:solidFill>
                <a:latin typeface="Times New Roman"/>
                <a:ea typeface="Times New Roman"/>
              </a:rPr>
              <a:t>(aktīvas, pasīvas) </a:t>
            </a:r>
            <a:br>
              <a:rPr sz="3600"/>
            </a:br>
            <a:endParaRPr b="0" lang="en-US" sz="3600" spc="-1" strike="noStrike">
              <a:solidFill>
                <a:srgbClr val="404040"/>
              </a:solidFill>
              <a:latin typeface="Times New Roman"/>
            </a:endParaRPr>
          </a:p>
        </p:txBody>
      </p:sp>
      <p:sp>
        <p:nvSpPr>
          <p:cNvPr id="358" name=""/>
          <p:cNvSpPr txBox="1"/>
          <p:nvPr/>
        </p:nvSpPr>
        <p:spPr>
          <a:xfrm>
            <a:off x="395280" y="1700280"/>
            <a:ext cx="8229600" cy="4525920"/>
          </a:xfrm>
          <a:prstGeom prst="rect">
            <a:avLst/>
          </a:prstGeom>
          <a:noFill/>
          <a:ln w="0">
            <a:noFill/>
          </a:ln>
        </p:spPr>
        <p:txBody>
          <a:bodyPr lIns="0" rIns="0" anchor="t">
            <a:normAutofit/>
          </a:bodyPr>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Terapeitiskie vingrinājumi ( aktīvi,  pasīvi; ar un bez dažādiem rīkiem),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īksto audu tehnika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locītavu mobilizācija,</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relaksācijas tehnikas,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pozicionēšana,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līdzsvara un koordinācijas treniņš,</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speciālas terapija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fizikālie faktori (aukstuma un siltuma aplikācijas, ultraskaņa, TENS u.c.),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palīgierīču lietošanas apmācība un treniņš u.c.</a:t>
            </a:r>
            <a:endParaRPr b="0"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297d53"/>
                </a:solidFill>
                <a:latin typeface="Times New Roman"/>
              </a:rPr>
              <a:t>Pasīvi terapeitiskie vingrojumi</a:t>
            </a:r>
            <a:endParaRPr b="0" lang="en-US" sz="4400" spc="-1" strike="noStrike">
              <a:solidFill>
                <a:srgbClr val="404040"/>
              </a:solidFill>
              <a:latin typeface="Times New Roman"/>
            </a:endParaRPr>
          </a:p>
        </p:txBody>
      </p:sp>
      <p:sp>
        <p:nvSpPr>
          <p:cNvPr id="360" name=""/>
          <p:cNvSpPr txBox="1"/>
          <p:nvPr/>
        </p:nvSpPr>
        <p:spPr>
          <a:xfrm>
            <a:off x="394920" y="2060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nav aktīvs pacienta darb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ielieto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ocītavu pasīvā kustību apjoma saglabāšana (kontraktūru profilakse) vai uzlabošana;</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muskulatūras tonusa normalizēšana (spastikas mazināšana);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āpju mazināšana.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Aktīvi asistējoši vingrojumi</a:t>
            </a:r>
            <a:endParaRPr b="0" lang="en-US" sz="4800" spc="-1" strike="noStrike">
              <a:solidFill>
                <a:srgbClr val="404040"/>
              </a:solidFill>
              <a:latin typeface="Times New Roman"/>
            </a:endParaRPr>
          </a:p>
        </p:txBody>
      </p:sp>
      <p:sp>
        <p:nvSpPr>
          <p:cNvPr id="36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Aktīvi asistējoši vingrojumi jeb aktīvi vingrojumi ar palīdzību (kustības veikšanā ir iesaistīts gan paša pacienta darbs, gan ārējs spēks (palīdzētāja darbs), kas var būt gan ārējā vide (piem., slīdoša virsma), gan gravitācijas spēks (piem., veicot kustību gravitācijas spēka virzienā), gan mehāniskas ierīces vai rīki (piem., medicīniskie trenažieri), gan manuāla palīdzība (piem., fizioterapeits).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Pielietojums: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aktīvu kustību veicināšana,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muskuļu spēka uzlabošana agrīnajā etapā,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muskuļu spēka saglabāšana,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starpposms starp pasīviem vingrojumiem un aktīviem vingrojumiem. </a:t>
            </a: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Aktīvie vingrojumi</a:t>
            </a:r>
            <a:endParaRPr b="0" lang="en-US" sz="4800" spc="-1" strike="noStrike">
              <a:solidFill>
                <a:srgbClr val="404040"/>
              </a:solidFill>
              <a:latin typeface="Times New Roman"/>
            </a:endParaRPr>
          </a:p>
        </p:txBody>
      </p:sp>
      <p:sp>
        <p:nvSpPr>
          <p:cNvPr id="364" name=""/>
          <p:cNvSpPr txBox="1"/>
          <p:nvPr/>
        </p:nvSpPr>
        <p:spPr>
          <a:xfrm>
            <a:off x="821880" y="1846440"/>
            <a:ext cx="7543800" cy="4022640"/>
          </a:xfrm>
          <a:prstGeom prst="rect">
            <a:avLst/>
          </a:prstGeom>
          <a:noFill/>
          <a:ln w="0">
            <a:noFill/>
          </a:ln>
        </p:spPr>
        <p:txBody>
          <a:bodyPr lIns="0" rIns="0" anchor="t">
            <a:normAutofit fontScale="94000"/>
          </a:bodyPr>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eic pats pacients</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esaistītais muskulis vai muskuļu grupas var veikt izometrisku, koncentrisku vai ekscentrisku muskuļu darbu.</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ar tikt veikti gan ar, gan bez ārējas pretestības </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ielietojums:</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uskuļu spēka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izturības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līdzsvara un koordinācijas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aktīvās  mobilitātes, stabilitātes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perifērās asinsrites uzlabošana  un citi</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Terapeitiskie vingrojumi ūdenī </a:t>
            </a:r>
            <a:endParaRPr b="0" lang="en-US" sz="4800" spc="-1" strike="noStrike">
              <a:solidFill>
                <a:srgbClr val="404040"/>
              </a:solidFill>
              <a:latin typeface="Times New Roman"/>
            </a:endParaRPr>
          </a:p>
        </p:txBody>
      </p:sp>
      <p:sp>
        <p:nvSpPr>
          <p:cNvPr id="36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ingrojumu veikšanu un terapeitisko efektu ietekmēs gan ūdens temperatūra, gan vispārējais vai lokālais ūdens līmeņa augst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Atvieglo kustību veikšanu, tādēļ var veikt tādas kustības, kas nav iespējamas ārpus ūden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Rada pretestību, ko var izmantot gan muskuļu spēka uzlabošanai, gan vispārējās izturības treniņam.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erapeitiskie vingrojumi ūdenī tiek izmantoti un ir apstiprināta to efektivitāte dažādām pacientu grupām (ortopēdijā, neiroloģijā, reimatoloģijā u.c.).</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Locītavu mobilizācija </a:t>
            </a:r>
            <a:endParaRPr b="0" lang="en-US" sz="4800" spc="-1" strike="noStrike">
              <a:solidFill>
                <a:srgbClr val="404040"/>
              </a:solidFill>
              <a:latin typeface="Times New Roman"/>
            </a:endParaRPr>
          </a:p>
        </p:txBody>
      </p:sp>
      <p:sp>
        <p:nvSpPr>
          <p:cNvPr id="36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iek izmantota, lai atjaunotu vai uzlabotu locītavas artrokinemātiskās kustības jeb «locītavu spēle». (starp locītavu virsmām slīdēšana, velšanās un griešanā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ielieto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 funkciju izpildi, kas saistīta ar kustības apjomu un kvalitāti.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 saišu un kapsulu mobilitāti.</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timulē mehanoreceptorus, kas nodrošina reflektoru iedarbību.</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 lokālu mikrocirkulāciju.</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98100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Kas ir fizioterapija?</a:t>
            </a:r>
            <a:br>
              <a:rPr sz="4800"/>
            </a:br>
            <a:endParaRPr b="0" lang="en-US" sz="4800" spc="-1" strike="noStrike">
              <a:solidFill>
                <a:srgbClr val="404040"/>
              </a:solidFill>
              <a:latin typeface="Times New Roman"/>
            </a:endParaRPr>
          </a:p>
        </p:txBody>
      </p:sp>
      <p:sp>
        <p:nvSpPr>
          <p:cNvPr id="3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Times New Roman"/>
              </a:rPr>
              <a:t> </a:t>
            </a:r>
            <a:endParaRPr b="0" lang="en-US" sz="2000" spc="-1" strike="noStrike">
              <a:solidFill>
                <a:srgbClr val="404040"/>
              </a:solidFill>
              <a:latin typeface="Arial"/>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404040"/>
                </a:solidFill>
                <a:latin typeface="Times New Roman"/>
              </a:rPr>
              <a:t>Fizioterapija ir atsevišķa veselības aprūpes nozare, kas ietver sevī pacienta novērtēšanas, analīzes un ārstēšanas medicīniskās tehnoloģijas.</a:t>
            </a: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Locītavu trakcija </a:t>
            </a:r>
            <a:endParaRPr b="0" lang="en-US" sz="4800" spc="-1" strike="noStrike">
              <a:solidFill>
                <a:srgbClr val="404040"/>
              </a:solidFill>
              <a:latin typeface="Times New Roman"/>
            </a:endParaRPr>
          </a:p>
        </p:txBody>
      </p:sp>
      <p:sp>
        <p:nvSpPr>
          <p:cNvPr id="37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rakcija tiek izmantota gan perifērajām locītavām, gan mugurkaulam.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rakciju fizioterapeits parasti veic manuāli, bet var tikt izmantotas arī speciālas ierīces (jostas, atsaites, speciālas trakcijas ierīces (galdi))</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rakcijas laikā tiek attālinātas locītavu virsmas un iestiepti apkārtējie mīkstie audi, kā rezultātā samazināts spiediens uz locītavas virsmām un intraartikulārajām struktūrām un samazinātas sāpe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90792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Mīksto audu tehnikas</a:t>
            </a:r>
            <a:br>
              <a:rPr sz="4800"/>
            </a:br>
            <a:endParaRPr b="0" lang="en-US" sz="4800" spc="-1" strike="noStrike">
              <a:solidFill>
                <a:srgbClr val="404040"/>
              </a:solidFill>
              <a:latin typeface="Times New Roman"/>
            </a:endParaRPr>
          </a:p>
        </p:txBody>
      </p:sp>
      <p:sp>
        <p:nvSpPr>
          <p:cNvPr id="372" name=""/>
          <p:cNvSpPr txBox="1"/>
          <p:nvPr/>
        </p:nvSpPr>
        <p:spPr>
          <a:xfrm>
            <a:off x="684360" y="1846440"/>
            <a:ext cx="7681680" cy="453528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 </a:t>
            </a:r>
            <a:r>
              <a:rPr b="0" lang="lv-LV" sz="1900" spc="-1" strike="noStrike">
                <a:solidFill>
                  <a:srgbClr val="404040"/>
                </a:solidFill>
                <a:latin typeface="Times New Roman"/>
              </a:rPr>
              <a:t>Iedarbība ir vērsta uz ādu un zemādu, muskuļiem un fascijām, cīpslām, saitēm, locītavu kapsulu un bursām, kā arī rētaudiem.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ehāniska iedarbība ar terapeita rokām (spiediens, berze, iestiepums, vibrācija, vērpe; dažādu faktoru kombinācija, piemēram, iestiepums un spiediens, vai iestiepums un vibrācija).</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Fizioterapijas ārstēšanas procesā tiek izmantota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trigger punktu» atbrīvošanas metode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iofasciālā atbrīvošana,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anuāls kontakta iestiepum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rētaudu mobilizācijas metode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dziļās mīksto audu tehnika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asāžas. </a:t>
            </a: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Mīksto audu tehnikas </a:t>
            </a:r>
            <a:endParaRPr b="0" lang="en-US" sz="4800" spc="-1" strike="noStrike">
              <a:solidFill>
                <a:srgbClr val="404040"/>
              </a:solidFill>
              <a:latin typeface="Times New Roman"/>
            </a:endParaRPr>
          </a:p>
        </p:txBody>
      </p:sp>
      <p:sp>
        <p:nvSpPr>
          <p:cNvPr id="37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297d53"/>
                </a:solidFill>
                <a:latin typeface="Arial"/>
              </a:rPr>
              <a:t>Pielieto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iek izmantotas, lai uzlabotu audu elastību un kustīgumu,</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azinātu vispārēju vai lokālu saspringumu (t.sk., miofasciālo trigger punktu atbrīvošana),</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uzlabotu slīdēšanu starp dažādām struktūrām,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tu mikrocirkulāciju un vielmaiņas procesu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stimulētu rētaudu mobilitāti un remodelāciju. </a:t>
            </a:r>
            <a:endParaRPr b="0" lang="en-US" sz="2000" spc="-1" strike="noStrike">
              <a:solidFill>
                <a:srgbClr val="404040"/>
              </a:solidFill>
              <a:latin typeface="Arial"/>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Kinezioloģiskā teipošana </a:t>
            </a:r>
            <a:endParaRPr b="0" lang="en-US" sz="4800" spc="-1" strike="noStrike">
              <a:solidFill>
                <a:srgbClr val="404040"/>
              </a:solidFill>
              <a:latin typeface="Times New Roman"/>
            </a:endParaRPr>
          </a:p>
        </p:txBody>
      </p:sp>
      <p:sp>
        <p:nvSpPr>
          <p:cNvPr id="37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etodes pamatā ir teipinga lentas aplikācija uz āda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Aplikācijas varianti ir dažādi, un tie nosaka iedarbības efektu. Galvenie teipinga objekti ir āda, fascijas, muskuļi, saites. Iedarbes mehānisms kinezioloģiskajam teipingam ir gan neiroloģisks, gan strukturāls, gan mikrocirkulators.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etode ir efektīva sāpju mazināšanai, muskuļu funkciju stimulēšanai, muskuļu relaksācijai, limfas atteces veicināšanai, rētaudu mobilitātes uzlabošanai.</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3640" y="141300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300" spc="-1" strike="noStrike">
                <a:solidFill>
                  <a:srgbClr val="297d53"/>
                </a:solidFill>
                <a:latin typeface="Times New Roman"/>
                <a:ea typeface="Times New Roman"/>
              </a:rPr>
              <a:t>Ārstēšanas metodes</a:t>
            </a:r>
            <a:br>
              <a:rPr sz="4300"/>
            </a:br>
            <a:br>
              <a:rPr sz="4300"/>
            </a:br>
            <a:endParaRPr b="0" lang="en-US" sz="4300" spc="-1" strike="noStrike">
              <a:solidFill>
                <a:srgbClr val="404040"/>
              </a:solidFill>
              <a:latin typeface="Times New Roman"/>
            </a:endParaRPr>
          </a:p>
        </p:txBody>
      </p:sp>
      <p:sp>
        <p:nvSpPr>
          <p:cNvPr id="37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Arial"/>
              </a:rPr>
              <a:t> </a:t>
            </a:r>
            <a:r>
              <a:rPr b="0" lang="lv-LV" sz="2000" spc="-1" strike="noStrike">
                <a:solidFill>
                  <a:srgbClr val="404040"/>
                </a:solidFill>
                <a:latin typeface="Arial"/>
              </a:rPr>
              <a:t>Specifiskās fizioterapijas metodes ir vērstas uz fizisko funkciju uzlabošanu, atjaunošanu vai saglabāšanu.</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Dažas no specifiskajām fizioterapijas metodēm ir kompleksas, un tām ir pierādīta efektivitāte kā atsevišķām, neatkarīgām terapijas metodēm konkrētu traucējumu gadījumā. Tomēr biežāk fizioterapijas procesā tiek izmantotas vairāku metožu kombinācija un dažādu konceptu integrācija.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edicīniskās tehnoloģijas ilgums, atkarībā no izmantotās metodes, var variēt no 10 līdz 60 minūtēm.</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26560" y="692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297d53"/>
                </a:solidFill>
                <a:latin typeface="Times New Roman"/>
                <a:ea typeface="Times New Roman"/>
              </a:rPr>
              <a:t>Kādos gadījumos var palīdzēt fizioterapeits?</a:t>
            </a:r>
            <a:br>
              <a:rPr sz="3200"/>
            </a:br>
            <a:endParaRPr b="0" lang="en-US" sz="3200" spc="-1" strike="noStrike">
              <a:solidFill>
                <a:srgbClr val="404040"/>
              </a:solidFill>
              <a:latin typeface="Times New Roman"/>
            </a:endParaRPr>
          </a:p>
        </p:txBody>
      </p:sp>
      <p:sp>
        <p:nvSpPr>
          <p:cNvPr id="380" name=""/>
          <p:cNvSpPr txBox="1"/>
          <p:nvPr/>
        </p:nvSpPr>
        <p:spPr>
          <a:xfrm>
            <a:off x="810720" y="1844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dažādām kaulu, locītavu un muskuļu saslimšanām: piem. locītavu artrozes, reimatoidais poliartrīts, dažādas mugurkaulāja saslimšanas u.c.;</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atveseļošanās posmā pēc dažādām traumām;</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nervu sistēmas saslimšanām un traumām: piemēram, smadzeņu asinsrites traucējumu (insulta) sekas, muguras un galvas smadzeņu traumatisku bojājumu sekas, polineiropātijas u.c.</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sirds un asinsvadu sistēmas saslimšanām: piemēram, atveseļošanās periodā pēc miokarda infarkta un pēc dažādām sirds operācijām;</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elpošanas sistēmas saslimšanām: piemēram, bronhiālā astma, hronisks un daudzos citos  gadījumos</a:t>
            </a: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2204640"/>
            <a:ext cx="82296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ea typeface="Times New Roman"/>
              </a:rPr>
              <a:t>Paldies par uzmanību!</a:t>
            </a:r>
            <a:endParaRPr b="0" lang="en-US" sz="4800" spc="-1" strike="noStrike">
              <a:solidFill>
                <a:srgbClr val="40404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4a7c29"/>
                </a:solidFill>
                <a:latin typeface="Times New Roman"/>
              </a:rPr>
              <a:t>Izmantotā literatūra</a:t>
            </a:r>
            <a:endParaRPr b="0" lang="en-US" sz="4800" spc="-1" strike="noStrike">
              <a:solidFill>
                <a:srgbClr val="404040"/>
              </a:solidFill>
              <a:latin typeface="Times New Roman"/>
            </a:endParaRPr>
          </a:p>
        </p:txBody>
      </p:sp>
      <p:sp>
        <p:nvSpPr>
          <p:cNvPr id="383" name=""/>
          <p:cNvSpPr txBox="1"/>
          <p:nvPr/>
        </p:nvSpPr>
        <p:spPr>
          <a:xfrm>
            <a:off x="818640" y="1844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Nacionālā veselības dienesta datu bāze</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atvijas fizioterapeitu asociācijas datu bāze</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404040"/>
                </a:solidFill>
                <a:latin typeface="Arial"/>
              </a:rPr>
              <a:t>Darryl L. Millis, David Levine</a:t>
            </a:r>
            <a:r>
              <a:rPr b="0" lang="lv-LV" sz="2000" spc="-1" strike="noStrike">
                <a:solidFill>
                  <a:srgbClr val="404040"/>
                </a:solidFill>
                <a:latin typeface="Arial"/>
              </a:rPr>
              <a:t> «</a:t>
            </a:r>
            <a:r>
              <a:rPr b="0" lang="en-US" sz="2000" spc="-1" strike="noStrike">
                <a:solidFill>
                  <a:srgbClr val="404040"/>
                </a:solidFill>
                <a:latin typeface="Arial"/>
              </a:rPr>
              <a:t>CANINE REHABILITATION AND PHYSICAL THERAPY</a:t>
            </a:r>
            <a:r>
              <a:rPr b="0" lang="lv-LV" sz="2000" spc="-1" strike="noStrike">
                <a:solidFill>
                  <a:srgbClr val="404040"/>
                </a:solidFill>
                <a:latin typeface="Arial"/>
              </a:rPr>
              <a:t>».</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47800" y="-12960"/>
            <a:ext cx="6554880" cy="15238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ea typeface="Times New Roman"/>
              </a:rPr>
              <a:t>Kas ir fizioterapeits?</a:t>
            </a:r>
            <a:endParaRPr b="0" lang="en-US" sz="4800" spc="-1" strike="noStrike">
              <a:solidFill>
                <a:srgbClr val="404040"/>
              </a:solidFill>
              <a:latin typeface="Times New Roman"/>
            </a:endParaRPr>
          </a:p>
        </p:txBody>
      </p:sp>
      <p:sp>
        <p:nvSpPr>
          <p:cNvPr id="327" name=""/>
          <p:cNvSpPr txBox="1"/>
          <p:nvPr/>
        </p:nvSpPr>
        <p:spPr>
          <a:xfrm>
            <a:off x="817200" y="1916280"/>
            <a:ext cx="7543800" cy="402408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04040"/>
                </a:solidFill>
                <a:latin typeface="Times New Roman"/>
                <a:ea typeface="Times New Roman"/>
              </a:rPr>
              <a:t>Fizioterapeits ir ārstniecības persona – funkcionālais speciālists, ar augstāko medicīnisko izglītību, kura veic fizisko un funkcionālo traucējumu profilaksi, novērtēšanu, analīzi un ārstēšanu, izmantojot dažādas fizioterapijas tehnoloģijas.</a:t>
            </a: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692280"/>
            <a:ext cx="7543800" cy="14508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ea typeface="Times New Roman"/>
              </a:rPr>
              <a:t>Izmeklēšanas metodes</a:t>
            </a:r>
            <a:br>
              <a:rPr sz="4800"/>
            </a:br>
            <a:endParaRPr b="0" lang="en-US" sz="4800" spc="-1" strike="noStrike">
              <a:solidFill>
                <a:srgbClr val="404040"/>
              </a:solidFill>
              <a:latin typeface="Times New Roman"/>
            </a:endParaRPr>
          </a:p>
        </p:txBody>
      </p:sp>
      <p:sp>
        <p:nvSpPr>
          <p:cNvPr id="329" name=""/>
          <p:cNvSpPr txBox="1"/>
          <p:nvPr/>
        </p:nvSpPr>
        <p:spPr>
          <a:xfrm>
            <a:off x="755640" y="1773360"/>
            <a:ext cx="8229600" cy="4525920"/>
          </a:xfrm>
          <a:prstGeom prst="rect">
            <a:avLst/>
          </a:prstGeom>
          <a:noFill/>
          <a:ln w="0">
            <a:noFill/>
          </a:ln>
        </p:spPr>
        <p:txBody>
          <a:bodyPr lIns="0" rIns="0" anchor="t">
            <a:normAutofit/>
          </a:bodyPr>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Anamnēze,</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stājas un gaitas analīze,</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otorās kontroles analīze ( pozas un kustības kontrole) ,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kustību apjoma, kvalitātes mērījumi un analīze,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uskuļu funkciju (spēka, garuma, izturības) novērtējum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uskuļu un saišu saspringuma novērtējum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ķermeņa izjūtas un apzināšanās novērtējum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līdzsvara un koordinācijas testi,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sirds-asinsvadu sistēmas reakcijas uz slodzi,</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elpošanas funkciju novērtējums un analīze,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dažādi speciālie testi. </a:t>
            </a:r>
            <a:endParaRPr b="0"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Stājas novērtēšana</a:t>
            </a:r>
            <a:endParaRPr b="0" lang="en-US" sz="4800" spc="-1" strike="noStrike">
              <a:solidFill>
                <a:srgbClr val="404040"/>
              </a:solidFill>
              <a:latin typeface="Times New Roman"/>
            </a:endParaRPr>
          </a:p>
        </p:txBody>
      </p:sp>
      <p:sp>
        <p:nvSpPr>
          <p:cNvPr id="331" name=""/>
          <p:cNvSpPr txBox="1"/>
          <p:nvPr/>
        </p:nvSpPr>
        <p:spPr>
          <a:xfrm>
            <a:off x="971280" y="1844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 </a:t>
            </a:r>
            <a:r>
              <a:rPr b="0" lang="lv-LV" sz="1800" spc="-1" strike="noStrike">
                <a:solidFill>
                  <a:srgbClr val="404040"/>
                </a:solidFill>
                <a:latin typeface="Times New Roman"/>
                <a:ea typeface="Times New Roman"/>
              </a:rPr>
              <a:t>Stāja tiek izvērtēta sagitālajā plaknē (no abiem sāniem) un frontālajā plaknē     (no priekšpuses un mugurpuses). </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 </a:t>
            </a:r>
            <a:r>
              <a:rPr b="0" lang="lv-LV" sz="1800" spc="-1" strike="noStrike">
                <a:solidFill>
                  <a:srgbClr val="404040"/>
                </a:solidFill>
                <a:latin typeface="Times New Roman"/>
                <a:ea typeface="Times New Roman"/>
              </a:rPr>
              <a:t>Stājas (pozas) izvērtējums apskates laikā ir sākums objektīvajai fiziskajai funkcionālajai izvērtēšanai, kas dod norādes tālākās izvērtēšanas stratēģijai (piem., muskuļu testu izvēlei), kā arī dod sākotnējo ieskatu par iespējamo posturālo traucējumu iemeslu. </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 </a:t>
            </a:r>
            <a:r>
              <a:rPr b="0" lang="lv-LV" sz="1800" spc="-1" strike="noStrike">
                <a:solidFill>
                  <a:srgbClr val="404040"/>
                </a:solidFill>
                <a:latin typeface="Times New Roman"/>
                <a:ea typeface="Times New Roman"/>
              </a:rPr>
              <a:t>Stājas (pozas) traucējumi ieilgstot noved pie diskomforta un sāpju sindroma attīstības, un funkciju ierobežojuma, jo izraisa gan muskuļu un saišu, gan locītavu un kaulu neadekvātu noslodzi, kas sekundāri var izraisīt nervu sistēmas, kardiovaskulārās un respiratorās sistēmas funkciju traucējumus. </a:t>
            </a: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83664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Gaitas novērtēšana</a:t>
            </a:r>
            <a:br>
              <a:rPr sz="4800"/>
            </a:br>
            <a:endParaRPr b="0" lang="en-US" sz="4800" spc="-1" strike="noStrike">
              <a:solidFill>
                <a:srgbClr val="404040"/>
              </a:solidFill>
              <a:latin typeface="Times New Roman"/>
            </a:endParaRPr>
          </a:p>
        </p:txBody>
      </p:sp>
      <p:sp>
        <p:nvSpPr>
          <p:cNvPr id="33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Times New Roman"/>
                <a:ea typeface="Times New Roman"/>
              </a:rPr>
              <a:t> </a:t>
            </a:r>
            <a:r>
              <a:rPr b="0" lang="lv-LV" sz="2400" spc="-1" strike="noStrike">
                <a:solidFill>
                  <a:srgbClr val="404040"/>
                </a:solidFill>
                <a:latin typeface="Times New Roman"/>
                <a:ea typeface="Times New Roman"/>
              </a:rPr>
              <a:t>Nozīmīga fiziskā funkcionālā stāvokļa novērtējuma daļa.</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404040"/>
                </a:solidFill>
                <a:latin typeface="Times New Roman"/>
              </a:rPr>
              <a:t>Gaitas kvalitātei tiek izvērtēti sekojoši gaitas raksturlielumi: </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297d53"/>
                </a:solidFill>
                <a:latin typeface="Times New Roman"/>
              </a:rPr>
              <a:t>solis</a:t>
            </a:r>
            <a:r>
              <a:rPr b="0" lang="lv-LV" sz="2400" spc="-1" strike="noStrike">
                <a:solidFill>
                  <a:srgbClr val="404040"/>
                </a:solidFill>
                <a:latin typeface="Times New Roman"/>
              </a:rPr>
              <a:t> (garums, platums), </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297d53"/>
                </a:solidFill>
                <a:latin typeface="Times New Roman"/>
              </a:rPr>
              <a:t>gaitas cikls </a:t>
            </a:r>
            <a:r>
              <a:rPr b="0" lang="lv-LV" sz="2400" spc="-1" strike="noStrike">
                <a:solidFill>
                  <a:srgbClr val="404040"/>
                </a:solidFill>
                <a:latin typeface="Times New Roman"/>
              </a:rPr>
              <a:t>(balsta fāze un vēziena fāze),</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297d53"/>
                </a:solidFill>
                <a:latin typeface="Times New Roman"/>
              </a:rPr>
              <a:t>gaitas ātrums un temps</a:t>
            </a:r>
            <a:r>
              <a:rPr b="0" lang="lv-LV" sz="2400" spc="-1" strike="noStrike">
                <a:solidFill>
                  <a:srgbClr val="404040"/>
                </a:solidFill>
                <a:latin typeface="Times New Roman"/>
              </a:rPr>
              <a:t>.</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404040"/>
                </a:solidFill>
                <a:latin typeface="Times New Roman"/>
              </a:rPr>
              <a:t>Kvantitatīvi nosaka noieto attālumu, ātrumu, locītavu iesaistīšanos (apjoms, kvalitāte), gan muskuļu darba efektivitāti, gan iespējamos kompensācijas mehānismus</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89120" y="243000"/>
            <a:ext cx="7494480" cy="1333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206252"/>
                </a:solidFill>
                <a:latin typeface="Times New Roman"/>
              </a:rPr>
              <a:t>Motorā kontrole</a:t>
            </a:r>
            <a:br>
              <a:rPr sz="4000"/>
            </a:br>
            <a:r>
              <a:rPr b="1" lang="lv-LV" sz="4000" spc="-1" strike="noStrike">
                <a:solidFill>
                  <a:srgbClr val="206252"/>
                </a:solidFill>
                <a:latin typeface="Times New Roman"/>
              </a:rPr>
              <a:t> (pozas un kustības kontrole)</a:t>
            </a:r>
            <a:endParaRPr b="0" lang="en-US" sz="4000" spc="-1" strike="noStrike">
              <a:solidFill>
                <a:srgbClr val="404040"/>
              </a:solidFill>
              <a:latin typeface="Times New Roman"/>
            </a:endParaRPr>
          </a:p>
        </p:txBody>
      </p:sp>
      <p:pic>
        <p:nvPicPr>
          <p:cNvPr id="335" name="" descr=""/>
          <p:cNvPicPr/>
          <p:nvPr/>
        </p:nvPicPr>
        <p:blipFill>
          <a:blip r:embed="rId1"/>
          <a:stretch/>
        </p:blipFill>
        <p:spPr>
          <a:xfrm>
            <a:off x="821880" y="2276640"/>
            <a:ext cx="7543800" cy="4022640"/>
          </a:xfrm>
          <a:prstGeom prst="rect">
            <a:avLst/>
          </a:prstGeom>
          <a:ln w="0">
            <a:noFill/>
          </a:ln>
        </p:spPr>
      </p:pic>
      <p:sp>
        <p:nvSpPr>
          <p:cNvPr id="336" name="Rectangle 3"/>
          <p:cNvSpPr/>
          <p:nvPr/>
        </p:nvSpPr>
        <p:spPr>
          <a:xfrm>
            <a:off x="1079640" y="5429160"/>
            <a:ext cx="6913440" cy="997200"/>
          </a:xfrm>
          <a:prstGeom prst="rect">
            <a:avLst/>
          </a:prstGeom>
          <a:solidFill>
            <a:srgbClr val="ffff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04040"/>
                </a:solidFill>
                <a:latin typeface="Arial"/>
              </a:rPr>
              <a:t>Mobilitā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ieņemt pozu) </a:t>
            </a:r>
            <a:endParaRPr b="0" lang="en-US" sz="1800" spc="-1" strike="noStrike">
              <a:solidFill>
                <a:srgbClr val="000000"/>
              </a:solidFill>
              <a:latin typeface="Arial"/>
            </a:endParaRPr>
          </a:p>
        </p:txBody>
      </p:sp>
      <p:sp>
        <p:nvSpPr>
          <p:cNvPr id="337" name="Rectangle 4"/>
          <p:cNvSpPr/>
          <p:nvPr/>
        </p:nvSpPr>
        <p:spPr>
          <a:xfrm>
            <a:off x="1677960" y="4494240"/>
            <a:ext cx="5832360" cy="934920"/>
          </a:xfrm>
          <a:prstGeom prst="rect">
            <a:avLst/>
          </a:prstGeom>
          <a:solidFill>
            <a:srgbClr val="63a537"/>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04040"/>
                </a:solidFill>
                <a:latin typeface="Arial"/>
              </a:rPr>
              <a:t>Stabilitāte</a:t>
            </a:r>
            <a:r>
              <a:rPr b="0" lang="lv-LV" sz="2400" spc="-1" strike="noStrike">
                <a:solidFill>
                  <a:srgbClr val="40404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noturēt pozu)</a:t>
            </a:r>
            <a:endParaRPr b="0" lang="en-US" sz="1800" spc="-1" strike="noStrike">
              <a:solidFill>
                <a:srgbClr val="000000"/>
              </a:solidFill>
              <a:latin typeface="Arial"/>
            </a:endParaRPr>
          </a:p>
        </p:txBody>
      </p:sp>
      <p:sp>
        <p:nvSpPr>
          <p:cNvPr id="338" name="Rectangle 5"/>
          <p:cNvSpPr/>
          <p:nvPr/>
        </p:nvSpPr>
        <p:spPr>
          <a:xfrm>
            <a:off x="2146320" y="3610080"/>
            <a:ext cx="4896000" cy="896760"/>
          </a:xfrm>
          <a:prstGeom prst="rect">
            <a:avLst/>
          </a:prstGeom>
          <a:solidFill>
            <a:srgbClr val="ffc0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04040"/>
                </a:solidFill>
                <a:latin typeface="Arial"/>
              </a:rPr>
              <a:t>Kontrolētā mobilitā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kustēties pozā)</a:t>
            </a:r>
            <a:endParaRPr b="0" lang="en-US" sz="1800" spc="-1" strike="noStrike">
              <a:solidFill>
                <a:srgbClr val="000000"/>
              </a:solidFill>
              <a:latin typeface="Arial"/>
            </a:endParaRPr>
          </a:p>
        </p:txBody>
      </p:sp>
      <p:sp>
        <p:nvSpPr>
          <p:cNvPr id="339" name="Rectangle 6"/>
          <p:cNvSpPr/>
          <p:nvPr/>
        </p:nvSpPr>
        <p:spPr>
          <a:xfrm>
            <a:off x="2448000" y="2698920"/>
            <a:ext cx="4176720" cy="925200"/>
          </a:xfrm>
          <a:prstGeom prst="rect">
            <a:avLst/>
          </a:prstGeom>
          <a:solidFill>
            <a:srgbClr val="9fd47c"/>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Arial"/>
              </a:rPr>
              <a:t>Statiski dinamiskais līdzsva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atraut vienu no svaru nesošajām ekstremitātēm)</a:t>
            </a:r>
            <a:endParaRPr b="0" lang="en-US" sz="1800" spc="-1" strike="noStrike">
              <a:solidFill>
                <a:srgbClr val="000000"/>
              </a:solidFill>
              <a:latin typeface="Arial"/>
            </a:endParaRPr>
          </a:p>
        </p:txBody>
      </p:sp>
      <p:sp>
        <p:nvSpPr>
          <p:cNvPr id="340" name="Rectangle 8"/>
          <p:cNvSpPr/>
          <p:nvPr/>
        </p:nvSpPr>
        <p:spPr>
          <a:xfrm>
            <a:off x="2771640" y="1770120"/>
            <a:ext cx="3240360" cy="914400"/>
          </a:xfrm>
          <a:prstGeom prst="rect">
            <a:avLst/>
          </a:prstGeom>
          <a:solidFill>
            <a:srgbClr val="c3de22"/>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Arial"/>
              </a:rPr>
              <a:t>Pras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veikt manipulācijas vai spēja pārvietoties telp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90792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Locītavu funkcionālie testi</a:t>
            </a:r>
            <a:br>
              <a:rPr sz="4800"/>
            </a:br>
            <a:endParaRPr b="0" lang="en-US" sz="4800" spc="-1" strike="noStrike">
              <a:solidFill>
                <a:srgbClr val="404040"/>
              </a:solidFill>
              <a:latin typeface="Times New Roman"/>
            </a:endParaRPr>
          </a:p>
        </p:txBody>
      </p:sp>
      <p:sp>
        <p:nvSpPr>
          <p:cNvPr id="34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ai izvērtētu locītavu kustību apjomu tiek mērīts aktīvās un pasīvās kustības apjoms, kas tiek izteikts grādo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Mērījumus ir iespējams veikt ar goniometru, inklinometru, mērlenti.</a:t>
            </a:r>
            <a:r>
              <a:rPr b="1" lang="lv-LV" sz="2000" spc="-1" strike="noStrike">
                <a:solidFill>
                  <a:srgbClr val="404040"/>
                </a:solidFill>
                <a:latin typeface="Arial"/>
              </a:rPr>
              <a:t>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ocītavu kustību kvalitātes nodrošināšanā ir iesaistītas gan pašas locītavas struktūras un biomehāniskās funkcijas, gan apkārt esošo muskuļu darbība un neirālā kontrole (koordinācija, inervācija, propriocepcija).</a:t>
            </a:r>
            <a:endParaRPr b="0" lang="en-US" sz="2000" spc="-1" strike="noStrike">
              <a:solidFill>
                <a:srgbClr val="404040"/>
              </a:solidFill>
              <a:latin typeface="Arial"/>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21880" y="98100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Muskuļu funkcionālie testi</a:t>
            </a:r>
            <a:br>
              <a:rPr sz="4800"/>
            </a:br>
            <a:endParaRPr b="0" lang="en-US" sz="4800" spc="-1" strike="noStrike">
              <a:solidFill>
                <a:srgbClr val="404040"/>
              </a:solidFill>
              <a:latin typeface="Times New Roman"/>
            </a:endParaRPr>
          </a:p>
        </p:txBody>
      </p:sp>
      <p:sp>
        <p:nvSpPr>
          <p:cNvPr id="344"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206252"/>
                </a:solidFill>
                <a:latin typeface="Arial"/>
              </a:rPr>
              <a:t>Muskuļu garuma testi:</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obilitātes ierobežojuma iemesls,</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muskulatūras disbalanss, </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amazināta stabilitāte,</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liktākas funkcijas.</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206252"/>
                </a:solidFill>
                <a:latin typeface="Arial"/>
              </a:rPr>
              <a:t>Muskuļu spēka testi:</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zvērtē muskuļa spēju kontrahēties (aktivizēties);</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zvērtē muskuļa spēju veikt kontrakciju un izdarīt savu funkciju pilnā apjomā;</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zvērtē pretestību, ko muskulis var pārvarēt (noturēt).</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1T18:17:01Z</dcterms:created>
  <dc:creator>maaja</dc:creator>
  <dc:description/>
  <dc:language>en-US</dc:language>
  <cp:lastModifiedBy>Microsoft account</cp:lastModifiedBy>
  <dcterms:modified xsi:type="dcterms:W3CDTF">2014-11-27T21:01:58Z</dcterms:modified>
  <cp:revision>114</cp:revision>
  <dc:subject/>
  <dc:title>Fizioterapijas pamati</dc:title>
</cp:coreProperties>
</file>